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highchime.wav" ContentType="audio/x-wav"/>
  <Override PartName="/ppt/media/zapbig0g.wav" ContentType="audio/x-wav"/>
  <Override PartName="/ppt/media/bserie06.wav" ContentType="audio/x-wav"/>
  <Override PartName="/ppt/media/jetflyby2.wav" ContentType="audio/x-wav"/>
  <Override PartName="/ppt/media/children%20wow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4ED-207D-4C76-98B3-A92D2D97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CD51-9746-4F1E-B603-1C8D85B1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0A3-358E-4861-98E8-6DCE8C94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D91-1FBE-48BD-9B84-02049760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E34-51C4-4F3A-8436-66A270EE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1EF-DDA5-4FFF-889E-E73BCED2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50D-B044-4F97-BCF3-BF62CE98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C45-D9D3-4D71-AE3A-64CD6A12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FFC-BA2A-42CF-BEB3-1B767D67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11D-1302-4A99-AF5A-E0C6DE2B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CC9-C779-4AE2-8896-ABBB17EF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C47-50BE-4219-97F8-D1B46DAA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9D45-0C8C-453C-89EC-E124F750D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ighchime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audio" Target="../media/bserie06.wav"/><Relationship Id="rId6" Type="http://schemas.openxmlformats.org/officeDocument/2006/relationships/audio" Target="../media/zapbig0g.wav"/><Relationship Id="rId7" Type="http://schemas.openxmlformats.org/officeDocument/2006/relationships/audio" Target="../media/bserie06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zapbig0g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zapbig0g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children%20wow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children%20wow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children%20wow.wav"/><Relationship Id="rId7" Type="http://schemas.openxmlformats.org/officeDocument/2006/relationships/audio" Target="../media/bserie06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children%20wow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To find the value of a number expression, do the oper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2274840"/>
            <a:ext cx="319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  9 + 7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01920" y="3092400"/>
            <a:ext cx="105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value 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97600" y="3090960"/>
            <a:ext cx="10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805280" y="2382840"/>
                <a:ext cx="2602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411200" y="5056200"/>
            <a:ext cx="10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79520" y="4192560"/>
                <a:ext cx="20192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5464080" y="5054760"/>
            <a:ext cx="10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756320" y="4302000"/>
                <a:ext cx="157140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To find the value of a number expression, do the oper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676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the value 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31960" y="3137040"/>
            <a:ext cx="10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44680" y="2413080"/>
                <a:ext cx="2287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5388120" y="3149640"/>
            <a:ext cx="137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4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392720" y="2428920"/>
                <a:ext cx="25146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To find the value of a number expression, do the oper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676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using the order of ope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47760" y="2336760"/>
                <a:ext cx="34988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8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639880" y="3174840"/>
                <a:ext cx="80676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327320" y="3173400"/>
                <a:ext cx="12985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239920" y="3919680"/>
                <a:ext cx="4478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405320" y="2281320"/>
                <a:ext cx="45752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÷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980400" y="3181320"/>
                <a:ext cx="492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800680" y="3165480"/>
                <a:ext cx="2778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450120" y="3938760"/>
                <a:ext cx="49356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953400" y="3932280"/>
                <a:ext cx="10317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993000" y="4749840"/>
                <a:ext cx="492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2 –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To find the value of a number expression, do the oper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676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using the order of ope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98440" y="2306520"/>
                <a:ext cx="385920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÷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368440" y="3122640"/>
                <a:ext cx="4478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082520" y="3106800"/>
                <a:ext cx="28656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÷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74760" y="4807080"/>
                <a:ext cx="7621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08440" y="3911760"/>
                <a:ext cx="493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508040" y="3908520"/>
                <a:ext cx="1301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626000" y="2320920"/>
                <a:ext cx="385920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648400" y="3138480"/>
                <a:ext cx="8064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483240" y="3106800"/>
                <a:ext cx="19702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496200" y="4829040"/>
                <a:ext cx="8064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251840" y="3911760"/>
                <a:ext cx="493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851440" y="3908520"/>
                <a:ext cx="1301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ldren%20w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5, 2 – 1 #1-20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37, 2 – 2 #1-18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19T13:57:12Z</dcterms:modified>
  <cp:revision>50</cp:revision>
  <dc:subject/>
  <dc:title>Slide 1</dc:title>
</cp:coreProperties>
</file>